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414-7CC0-414F-AE4B-88FB6D8C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25F-4497-49CE-80C3-19A03A6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A8B-DEDA-4E4E-B1AF-5C08BF9B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528-3D2A-4841-A956-C9CAC1EF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7A6-8E38-45A0-A7A8-C7E663E3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036-82AC-4827-A6B9-A4BF88C5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2EB-CBCF-4A86-B927-DDD7BA9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709-AB68-430D-BD0B-08837A6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120-FC35-431A-9469-F568585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7EF-0F52-42F6-9ADC-CC30EAC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898-732C-4597-BAE0-121213A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F3B-4471-43CE-9F02-CBCAF0A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5C8-87FE-4C51-9B32-AE44CD59C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680" y="298404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rek Kukawczyńsk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35,C4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ultacj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działek 13.15 - 15.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orek 11.15 - 13.00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 156.17.39.22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zue.ita.pwr.wroc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marek.kukawczynski@pwr.wroc.pl</a:t>
            </a:r>
            <a:br>
              <a:rPr sz="2000"/>
            </a:br>
            <a:br>
              <a:rPr sz="2000"/>
            </a:b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Guziń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Liniowe elektroniczne układy analo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NT Warsza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liniowych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nieliniowych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 impulsowych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3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0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" y="230652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opisującej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u przez funkcję liniową, która jest przybliżeniem tej pierws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ewnym niewielkim zakresie zmian jej argu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382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384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760" y="59547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440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46" name="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27920" y="2297160"/>
            <a:ext cx="771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gzamin pisem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unkiem przystąpienia jest zaliczony projekt 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58880" y="43131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42498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78040" y="4068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644480" y="408744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662120" y="3876840"/>
            <a:ext cx="0" cy="28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6240" y="334476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633" name="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0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701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2947320" y="611172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738" name="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741" name="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782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80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805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808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82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82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83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902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31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937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939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962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972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975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986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995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6600" y="1298520"/>
            <a:ext cx="8026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sprawiedliwianie nieobecności na egzamini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wolnienie i wpis do książeczki zdrowia dostarcz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pierwszego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 tydzień lub następny termin egzamin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co wcześnie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drugiego 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3 dn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058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059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06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079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085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091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094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109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121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127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130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185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227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264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30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31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31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35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37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44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51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58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65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72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80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87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94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76280" y="291312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207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207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2118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2121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4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4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2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5040" y="1634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47" name="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48" name="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57" name="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(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881240" y="11192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I -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0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8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9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5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242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9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284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6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9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4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34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356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5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6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7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88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393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416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456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493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3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05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9680" y="1220760"/>
                <a:ext cx="4241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879520" y="12049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8360" y="1465200"/>
            <a:ext cx="8626680" cy="5266800"/>
            <a:chOff x="198360" y="1465200"/>
            <a:chExt cx="8626680" cy="5266800"/>
          </a:xfrm>
        </p:grpSpPr>
        <p:sp>
          <p:nvSpPr>
            <p:cNvPr id="75" name=""/>
            <p:cNvSpPr/>
            <p:nvPr/>
          </p:nvSpPr>
          <p:spPr>
            <a:xfrm flipV="1">
              <a:off x="1843200" y="2709720"/>
              <a:ext cx="0" cy="16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5800" y="4343400"/>
              <a:ext cx="47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3360" y="4329000"/>
              <a:ext cx="394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  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10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3200" y="35877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59040" y="3141360"/>
              <a:ext cx="44604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5080" y="31543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46400" y="2611440"/>
              <a:ext cx="4842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7800" y="2660760"/>
              <a:ext cx="118260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9720" y="428148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6280" y="4299120"/>
              <a:ext cx="98280" cy="11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59000" y="4286160"/>
              <a:ext cx="123840" cy="123840"/>
              <a:chOff x="3159000" y="4286160"/>
              <a:chExt cx="123840" cy="1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3159000" y="4299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68720" y="4286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59320" y="4297320"/>
              <a:ext cx="123840" cy="123840"/>
              <a:chOff x="4459320" y="4297320"/>
              <a:chExt cx="123840" cy="123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59320" y="431028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469040" y="429732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1640" y="4097160"/>
              <a:ext cx="21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 skala logarytmicz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6520" y="2548080"/>
              <a:ext cx="78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5480" y="2851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[d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200" y="3348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4440" y="5315040"/>
              <a:ext cx="80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Arg T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9240" y="330840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6560" y="263520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99320" y="28544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1760" y="30891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320" y="26640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7960" y="230184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75040" y="29005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4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71640" y="3564000"/>
              <a:ext cx="0" cy="766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16240" y="3166560"/>
              <a:ext cx="0" cy="116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44960" y="3166920"/>
              <a:ext cx="0" cy="1176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560" y="2635200"/>
              <a:ext cx="0" cy="1708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4040" y="2647800"/>
              <a:ext cx="0" cy="169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181480" y="4292640"/>
              <a:ext cx="123840" cy="123840"/>
              <a:chOff x="5181480" y="4292640"/>
              <a:chExt cx="123840" cy="12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1480" y="430560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91200" y="429264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868400" y="48769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4836960"/>
              <a:ext cx="46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3960" y="55292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75904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50720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50846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1800" y="55292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11948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2440" y="5084640"/>
              <a:ext cx="4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9800" y="554364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000" y="6396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51004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3960" y="51418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84760" y="5724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0760" y="5084640"/>
              <a:ext cx="0" cy="371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1000" y="512604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800" y="5554800"/>
              <a:ext cx="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46400" y="5121000"/>
              <a:ext cx="0" cy="34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515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52920" y="5084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9360" y="513396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55418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1640" y="51372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02320" y="1465200"/>
              <a:ext cx="4093920" cy="746640"/>
              <a:chOff x="4702320" y="1465200"/>
              <a:chExt cx="4093920" cy="746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02320" y="1646280"/>
                <a:ext cx="37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49720" y="1701720"/>
                <a:ext cx="2932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480" y="1601640"/>
                <a:ext cx="9864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6280" y="1612800"/>
                <a:ext cx="9828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468760" y="1584360"/>
                <a:ext cx="123840" cy="123840"/>
                <a:chOff x="5468760" y="1584360"/>
                <a:chExt cx="123840" cy="123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68760" y="159732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478480" y="158436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834240" y="1589040"/>
                <a:ext cx="123840" cy="123840"/>
                <a:chOff x="6834240" y="1589040"/>
                <a:chExt cx="123840" cy="1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4240" y="160200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843960" y="158904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740720" y="1566720"/>
                <a:ext cx="123840" cy="123840"/>
                <a:chOff x="7740720" y="1566720"/>
                <a:chExt cx="123840" cy="12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740720" y="1579680"/>
                  <a:ext cx="123840" cy="11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750440" y="1566720"/>
                  <a:ext cx="11088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463240" y="146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38760" y="338940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98360" y="3747960"/>
                  <a:ext cx="148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05120" y="5275440"/>
              <a:ext cx="5343480" cy="1095120"/>
            </a:xfrm>
            <a:custGeom>
              <a:avLst/>
              <a:gdLst/>
              <a:ahLst/>
              <a:rect l="l" t="t" r="r" b="b"/>
              <a:pathLst>
                <a:path w="3366" h="690">
                  <a:moveTo>
                    <a:pt x="0" y="153"/>
                  </a:moveTo>
                  <a:cubicBezTo>
                    <a:pt x="45" y="150"/>
                    <a:pt x="204" y="149"/>
                    <a:pt x="273" y="137"/>
                  </a:cubicBezTo>
                  <a:cubicBezTo>
                    <a:pt x="342" y="125"/>
                    <a:pt x="365" y="99"/>
                    <a:pt x="413" y="83"/>
                  </a:cubicBezTo>
                  <a:cubicBezTo>
                    <a:pt x="461" y="67"/>
                    <a:pt x="509" y="57"/>
                    <a:pt x="561" y="44"/>
                  </a:cubicBezTo>
                  <a:cubicBezTo>
                    <a:pt x="613" y="31"/>
                    <a:pt x="677" y="10"/>
                    <a:pt x="725" y="5"/>
                  </a:cubicBezTo>
                  <a:cubicBezTo>
                    <a:pt x="773" y="0"/>
                    <a:pt x="797" y="2"/>
                    <a:pt x="849" y="12"/>
                  </a:cubicBezTo>
                  <a:cubicBezTo>
                    <a:pt x="901" y="22"/>
                    <a:pt x="991" y="54"/>
                    <a:pt x="1036" y="67"/>
                  </a:cubicBezTo>
                  <a:cubicBezTo>
                    <a:pt x="1081" y="80"/>
                    <a:pt x="1083" y="85"/>
                    <a:pt x="1122" y="90"/>
                  </a:cubicBezTo>
                  <a:cubicBezTo>
                    <a:pt x="1161" y="95"/>
                    <a:pt x="1208" y="106"/>
                    <a:pt x="1270" y="98"/>
                  </a:cubicBezTo>
                  <a:cubicBezTo>
                    <a:pt x="1332" y="90"/>
                    <a:pt x="1430" y="52"/>
                    <a:pt x="1496" y="44"/>
                  </a:cubicBezTo>
                  <a:cubicBezTo>
                    <a:pt x="1562" y="36"/>
                    <a:pt x="1619" y="46"/>
                    <a:pt x="1668" y="51"/>
                  </a:cubicBezTo>
                  <a:cubicBezTo>
                    <a:pt x="1717" y="56"/>
                    <a:pt x="1748" y="59"/>
                    <a:pt x="1792" y="75"/>
                  </a:cubicBezTo>
                  <a:cubicBezTo>
                    <a:pt x="1836" y="91"/>
                    <a:pt x="1877" y="103"/>
                    <a:pt x="1933" y="145"/>
                  </a:cubicBezTo>
                  <a:cubicBezTo>
                    <a:pt x="1989" y="187"/>
                    <a:pt x="2057" y="263"/>
                    <a:pt x="2127" y="324"/>
                  </a:cubicBezTo>
                  <a:cubicBezTo>
                    <a:pt x="2197" y="385"/>
                    <a:pt x="2268" y="468"/>
                    <a:pt x="2353" y="511"/>
                  </a:cubicBezTo>
                  <a:cubicBezTo>
                    <a:pt x="2438" y="554"/>
                    <a:pt x="2550" y="564"/>
                    <a:pt x="2634" y="581"/>
                  </a:cubicBezTo>
                  <a:cubicBezTo>
                    <a:pt x="2718" y="598"/>
                    <a:pt x="2772" y="599"/>
                    <a:pt x="2860" y="613"/>
                  </a:cubicBezTo>
                  <a:cubicBezTo>
                    <a:pt x="2948" y="627"/>
                    <a:pt x="3080" y="654"/>
                    <a:pt x="3164" y="667"/>
                  </a:cubicBezTo>
                  <a:cubicBezTo>
                    <a:pt x="3248" y="680"/>
                    <a:pt x="3324" y="685"/>
                    <a:pt x="3366" y="69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2920" y="627228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rg T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52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797280"/>
              <a:ext cx="0" cy="544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2647800"/>
              <a:ext cx="150948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84800" y="3809880"/>
              <a:ext cx="66852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5920" y="2709720"/>
              <a:ext cx="0" cy="100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1320" y="3060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40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517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527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547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556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3836880" y="5051520"/>
            <a:ext cx="0" cy="33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192480" y="4989600"/>
            <a:ext cx="59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571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589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607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2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623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634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638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648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660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666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1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2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4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06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707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6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827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833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7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970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3005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3052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3064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3067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3073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3076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3080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3084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3088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0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3095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3121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3161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189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3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230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245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248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268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277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2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283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286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3321" name="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3333" name="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3342" name="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3348" name="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3351" name="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3354" name="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3357" name="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3360" name="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8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9" name="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1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402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413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424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435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446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457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9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7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468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479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491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494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497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500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506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8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517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9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539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542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545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548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8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67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76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82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85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88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711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718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733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741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755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63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66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83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6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7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5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796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805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811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814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817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9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840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847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1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862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4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870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884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6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892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895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912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922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937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9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942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966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977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994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997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4025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3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4034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4040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3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4060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4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4075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7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9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4080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4104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7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1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4132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4135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6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4147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9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4150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2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4180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1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y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 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140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45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1360440"/>
            <a:ext cx="1987560" cy="345960"/>
          </a:xfrm>
          <a:prstGeom prst="rightArrow">
            <a:avLst>
              <a:gd name="adj1" fmla="val 50000"/>
              <a:gd name="adj2" fmla="val 1436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2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4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2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8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209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1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7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248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3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264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267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4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275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7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278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0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288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35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35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371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4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375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0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381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6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401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3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414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6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450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6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467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482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5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8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9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491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50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507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8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522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525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52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0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1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53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546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549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1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562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580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586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8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1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59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598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0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601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604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6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615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697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9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5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06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350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 w konfiguracji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69" name="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1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5-02-22T15:42:21Z</dcterms:modified>
  <cp:revision>235</cp:revision>
  <dc:subject/>
  <dc:title>UKŁADY ZASILANIA TRANZYSTORÓW</dc:title>
</cp:coreProperties>
</file>